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DCA06-8FD3-453E-AC87-4245C48408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7F1E3-41EA-4A6E-B566-04A75E934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AB5D0-9969-48D8-86F6-30F254228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19E93-686C-4241-A5E1-DE4CCFDCAC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3BE20-92A8-4EC0-8DD4-3E47262523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5A738-291B-41F8-BA3C-E5C55D72D0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35D4-D801-4E32-8323-FA6B0A979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2BC6-F018-44C0-9D3C-7D2EA0FD1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7DF3-FDC0-4B30-81B7-9A66DB25C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F3D2-8662-45F6-9324-BEE000267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E88E-45AD-4275-869F-F5944E385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7C69-1629-4DC4-BC85-D6351CB42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3D5C-4243-4087-A0F8-E7DC3915E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80AD-47DC-4126-9521-961EA9469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9E9B-4DE9-4118-9548-090A9FC33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F726-30FE-4B60-9B0C-F86B4E92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20EB-E473-4D31-BD68-BE06B05C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1C67-41E7-49F6-AAEB-C8CA50B5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134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7BDDF-F277-40EC-8672-37AF73A1F8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04920" y="342864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adership and Relationships: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y Make Me or Break 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Lesson 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200" spc="-1" strike="noStrike">
                <a:solidFill>
                  <a:srgbClr val="ffff00"/>
                </a:solidFill>
                <a:latin typeface="Times New Roman"/>
              </a:rPr>
              <a:t>Million Leaders Mandate</a:t>
            </a:r>
            <a:br>
              <a:rPr sz="5200"/>
            </a:br>
            <a:br>
              <a:rPr sz="54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Notebook 6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0" y="198360"/>
            <a:ext cx="9144000" cy="62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GARBAGE COLLECTO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s person surrounds himself/herself with negative people; they gossip and spread rumors that poi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26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s to Handle the Garbage Collect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SzPct val="9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ront them with the people about whom they are talking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SzPct val="9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llenge their statements with objective truth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SzPct val="9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 exposure to destro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ir credibility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SzPct val="9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ose them to the churc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ers and warn of what’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ppe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" descr=""/>
          <p:cNvPicPr/>
          <p:nvPr/>
        </p:nvPicPr>
        <p:blipFill>
          <a:blip r:embed="rId1"/>
          <a:stretch/>
        </p:blipFill>
        <p:spPr>
          <a:xfrm>
            <a:off x="5489640" y="4160880"/>
            <a:ext cx="3578040" cy="2620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0" y="228600"/>
            <a:ext cx="9144000" cy="70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CONTROL FREA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– This person is unable to let go and trust both God and people. They have to be in contr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2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s to Handle the Control Frea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not give them highly visible positions of authority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ind them of Scriptural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ands to trust God and oth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cate that control is a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th - no human is ever really i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 of life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ew with them the many time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came through and provided for them in the past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6553080" y="3309840"/>
            <a:ext cx="2237040" cy="278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0" y="185760"/>
            <a:ext cx="9144000" cy="70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MAVERICK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s person frustrates others by living in their own wor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2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s to Handle the Maveric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't evaluate your leadership by the maverick's response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't put them into a team ministry position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't give them a leadership rol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til they can see beyon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mselves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 what motivates them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encourage them to see th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gger picture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6172200" y="3919680"/>
            <a:ext cx="2664000" cy="2633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0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76320" y="152280"/>
            <a:ext cx="8991360" cy="20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BACKSTABB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– This person is irrespressibly two-faced and hypocritic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2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s to Handle the Back Stabb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6781680" y="3008160"/>
            <a:ext cx="2286000" cy="3773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Strangling Stock Illustrations – 71 Strangling Stock Illustrations, Vectors  &amp;amp; Clipart - Dreamstime"/>
          <p:cNvPicPr/>
          <p:nvPr/>
        </p:nvPicPr>
        <p:blipFill>
          <a:blip r:embed="rId2"/>
          <a:stretch/>
        </p:blipFill>
        <p:spPr>
          <a:xfrm>
            <a:off x="1981080" y="2286000"/>
            <a:ext cx="2901960" cy="4267080"/>
          </a:xfrm>
          <a:prstGeom prst="rect">
            <a:avLst/>
          </a:prstGeom>
          <a:ln w="0">
            <a:noFill/>
          </a:ln>
        </p:spPr>
      </p:pic>
      <p:sp>
        <p:nvSpPr>
          <p:cNvPr id="80" name="TextBox 1"/>
          <p:cNvSpPr/>
          <p:nvPr/>
        </p:nvSpPr>
        <p:spPr>
          <a:xfrm>
            <a:off x="1828800" y="1600200"/>
            <a:ext cx="327672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4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3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76320" y="152280"/>
            <a:ext cx="8991360" cy="64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BACKSTABB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– This person is irrespressibly two-faced and hypocritic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2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s to Handle the Back Stabb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et with them and communicate your desire to trust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tly confront them with specific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 of their hypocris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olve others who hav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rienced their two-faced ways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concrete evidence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't give them authority until you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e them change their w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6781680" y="3008160"/>
            <a:ext cx="2286000" cy="377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0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331920"/>
            <a:ext cx="9144000" cy="63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ff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COLD SHOULD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s person disengages and avoids conta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ys to Handle the Cold Shoulder:</a:t>
            </a: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't reward childish behavior by running after them each time they distance themselves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meet with them a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k if you've don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thing to hurt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g deep to discover th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 issues that caus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m to avoid yo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" descr=""/>
          <p:cNvPicPr/>
          <p:nvPr/>
        </p:nvPicPr>
        <p:blipFill>
          <a:blip r:embed="rId1"/>
          <a:stretch/>
        </p:blipFill>
        <p:spPr>
          <a:xfrm>
            <a:off x="5410080" y="3416400"/>
            <a:ext cx="3578400" cy="3279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0" y="325440"/>
            <a:ext cx="9144000" cy="62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30080" indent="-730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10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VOLCANO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s person builds steam and often erupts; they are explos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Bef>
                <a:spcPts val="201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ys to Handle the Volcan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ove them from the crow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ain calm. Ask them to sit d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k them to repeat detail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be clear on issues; remov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rsay and exaggeration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a soft, clear answer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ld them accoun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6019920" y="3678120"/>
            <a:ext cx="3047760" cy="3060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0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152280"/>
            <a:ext cx="9144000" cy="65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30080" indent="-730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SPONGE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s person is constantly in need, but gives nothing back. They use peop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Bef>
                <a:spcPts val="2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ys to Handle the Spong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 limitations on your ability to help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't let them manipulate you or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ituation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quire responsibility; challeng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m that maturity means giving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receiving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't feel obligated or guilty by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demand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6858000" y="2816280"/>
            <a:ext cx="2054160" cy="3889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0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5"/>
          <p:cNvSpPr/>
          <p:nvPr/>
        </p:nvSpPr>
        <p:spPr>
          <a:xfrm>
            <a:off x="0" y="87480"/>
            <a:ext cx="9144000" cy="69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30080" indent="-73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ff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COMPETITO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– This person keeps score on everything. They want to beat others and often feel that life is unfa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Bef>
                <a:spcPts val="2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s to Handle the Competitor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ind them that a Christian's role is to "complete" others not to compete with others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t them know that keeping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ore will destine them to a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fe of miser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in them in finding positiv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ys their competitive spirit can be used by God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" descr=""/>
          <p:cNvPicPr/>
          <p:nvPr/>
        </p:nvPicPr>
        <p:blipFill>
          <a:blip r:embed="rId1"/>
          <a:stretch/>
        </p:blipFill>
        <p:spPr>
          <a:xfrm>
            <a:off x="5611680" y="3505320"/>
            <a:ext cx="3456000" cy="230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nodeType="clickEffect" fill="hold">
                      <p:stCondLst>
                        <p:cond delay="0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2280" y="1558800"/>
            <a:ext cx="899172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ve the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k God for wisdom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y healthy yourself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give special positions to help people get bette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honest with God, yourself and them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ep healthy people in leadership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0" y="2541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General Rules When Handling Peo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0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9"/>
          <p:cNvSpPr/>
          <p:nvPr/>
        </p:nvSpPr>
        <p:spPr>
          <a:xfrm>
            <a:off x="228600" y="13939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w do I se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MYSELF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The Power of Perspe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2630520" y="2593800"/>
            <a:ext cx="3882960" cy="3883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2"/>
          <p:cNvSpPr/>
          <p:nvPr/>
        </p:nvSpPr>
        <p:spPr>
          <a:xfrm>
            <a:off x="304920" y="378000"/>
            <a:ext cx="8534160" cy="60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Arial"/>
              </a:rPr>
              <a:t>QUESTION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Arial"/>
              </a:rPr>
              <a:t>COMMENT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nswers on </a:t>
            </a: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page 2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0" y="38088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228600" y="1143000"/>
            <a:ext cx="8915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w do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THERS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see m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w do I se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THERS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The Power of Perspe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2319480" y="3200400"/>
            <a:ext cx="4505040" cy="3505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76320" y="914400"/>
            <a:ext cx="91440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  <a:ea typeface="Times New Roman"/>
              </a:rPr>
              <a:t>The Role of Responsi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304920" y="2286000"/>
            <a:ext cx="8534160" cy="27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mans 12:18 tells us: “If possible, so far as it depends on you, be at peace with all men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he key to successful relationships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SPONS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10476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eaders Must Affirm the Following Stat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0" y="1657440"/>
            <a:ext cx="9144000" cy="57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 am responsible for how I treat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OTHER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 am not always responsible for how others treat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M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 will take the high road and lead people well b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HOI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, not rea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 must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E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myself and others the way God sees 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 am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SPONSIBI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for how I respond to those who are difficu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  <a:ea typeface="Times New Roman"/>
              </a:rPr>
              <a:t>The Role of Responsi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0" y="690480"/>
            <a:ext cx="9144000" cy="61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CRITIC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s person constantly complains and gives unwanted adv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s to Handle the Critic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cate you care b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stening to them, bu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llenge them to offe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u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rn your top leaders of th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son they may sprea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ough criticis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k the critic to be part of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ving the problems they bring u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6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 the High Road with Peo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5365800" y="2438280"/>
            <a:ext cx="3549600" cy="3838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76320" y="450720"/>
            <a:ext cx="9067680" cy="441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 startAt="2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MARTY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s person feels like the victim and swims in a pool of self-p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ys to Handle the Marty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them aware that attitude is a cho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y are a leader, teach them that a leader is responsible to be "up" for those they lead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ver reward self-pit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" descr=""/>
          <p:cNvPicPr/>
          <p:nvPr/>
        </p:nvPicPr>
        <p:blipFill>
          <a:blip r:embed="rId1"/>
          <a:stretch/>
        </p:blipFill>
        <p:spPr>
          <a:xfrm>
            <a:off x="5486400" y="4316400"/>
            <a:ext cx="3543480" cy="2362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0" y="287280"/>
            <a:ext cx="9144000" cy="61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WET BLANKET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s person is always pessimistic and is a drain on the relationsh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3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ys to Handle the Wet Blanket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honest with them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't expect them to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e as long as they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fer excuses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int to past successe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they thought would fail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't let them dampen your enthusiasm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5410080" y="2514600"/>
            <a:ext cx="3556080" cy="2666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0" y="304920"/>
            <a:ext cx="9144000" cy="60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STEAMROLLE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s person rolls over others and enjoys intimidating people; they are aggressive and can be host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s to Handle the Steamroll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the influence they have before you act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y to reason with them, an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ose them to their insensitivity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the issue they ar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ing for or against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 a stand when it clearly is a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vious right and wrong issue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6021360" y="3689280"/>
            <a:ext cx="3046320" cy="3016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7T20:12:50Z</dcterms:created>
  <dc:creator>INJOY</dc:creator>
  <dc:description/>
  <dc:language>en-US</dc:language>
  <cp:lastModifiedBy>Monte Cyr</cp:lastModifiedBy>
  <dcterms:modified xsi:type="dcterms:W3CDTF">2022-02-19T19:52:14Z</dcterms:modified>
  <cp:revision>119</cp:revision>
  <dc:subject/>
  <dc:title>Million Leaders Mandate Notebook Six</dc:title>
</cp:coreProperties>
</file>